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627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25000" y="7074000"/>
            <a:ext cx="95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CCBE-64A2-4E2F-B323-99083FBA1885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434800" y="339732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32440" y="709920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/4/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rmilab Mass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ichael Zalok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ermil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385920"/>
            <a:ext cx="8605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T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7320" y="1081080"/>
            <a:ext cx="8639280" cy="5851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920" y="5578560"/>
            <a:ext cx="255888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l time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9680" y="13968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02680" y="139680"/>
            <a:ext cx="159228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7000" y="1557360"/>
            <a:ext cx="2855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0040" y="2025720"/>
            <a:ext cx="144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606760" y="5335200"/>
            <a:ext cx="90468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65360" y="6337440"/>
            <a:ext cx="50263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pe &amp; driv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Current 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Instantaneou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005680" y="600084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098840" y="6076440"/>
            <a:ext cx="76860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 th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 Data on T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6 Pet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files on t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.8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volu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e Day Transfer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7 Ter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8000" y="123840"/>
            <a:ext cx="159228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218880"/>
            <a:ext cx="8605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rformance: 27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6840" y="1981080"/>
            <a:ext cx="9423360" cy="509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9680" y="169920"/>
            <a:ext cx="15922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03400" y="1058760"/>
            <a:ext cx="413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days of record transfe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760" y="1498680"/>
            <a:ext cx="554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MS Service Challenge in March (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77240" y="1498680"/>
            <a:ext cx="266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rmal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1120" y="1860480"/>
            <a:ext cx="358920" cy="14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286400" y="1890720"/>
            <a:ext cx="471240" cy="25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74600" y="1376280"/>
            <a:ext cx="2032200" cy="13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st because the file transferred without error, does not guarantee that everything is f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 Fermilab's load we see bit error corru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s will push the system to its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rd 27TB transfer days were not even noticed for thre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st having a lot of logs, alarms and plots is not enough.  They must also be interpre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1360" y="15408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ks on top of Enstore or as standalone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a buffer between the user and t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oves performance for 'popular' files by avoiding the need of reading from tape every time a file i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es as nodes (and disks) are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993000" y="189000"/>
            <a:ext cx="2930400" cy="143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66760" y="158760"/>
            <a:ext cx="293040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3600" y="235080"/>
            <a:ext cx="86058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r Access to Data in dCac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49120"/>
            <a:ext cx="8605800" cy="62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 – storage resource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rm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id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obus_url_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rberized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ak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cap – native dCach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c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get, web br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73840" y="142920"/>
            <a:ext cx="215280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tive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itoring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or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channe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o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channe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100 pool nodes with ~225 Terabytes of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96080" y="173160"/>
            <a:ext cx="215280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43020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6280" y="1598760"/>
            <a:ext cx="9150480" cy="4138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86200" y="5830920"/>
            <a:ext cx="346248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5164200" y="5019840"/>
            <a:ext cx="3233520" cy="10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728120" y="158760"/>
            <a:ext cx="2152440" cy="1055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3280" y="6168960"/>
            <a:ext cx="35434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rd transfer day of 60GB.  This is for just one dCach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73040" y="2266920"/>
            <a:ext cx="671760" cy="390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XFS filesystem on the pool d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direct I/O when accessing the files on the local dCac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s will push the system to its limits.  Be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728120" y="142920"/>
            <a:ext cx="215244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9440" y="58212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orage Resourc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440" y="1693440"/>
            <a:ext cx="860580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uniform interface for access to multiple storage systems via SRM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 is a broker that works on top of other storage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s as a server within the dC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X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ile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45400" y="90360"/>
            <a:ext cx="2246400" cy="878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440" y="90360"/>
            <a:ext cx="224640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-house, manages files, tape volumes, tape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-user direct interface to files on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int DESY and Fermilab, disk caching 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user interface to read cached files, write files to enstore indirectly via d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vides a consistent interface to underlying storag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MS Service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50 MB/s sustained transfe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CERN, though the dCache to tape in En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top of normal daily usage of 200 to 400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throttled to 50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00 MB/s sustained transfe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CERN to dCache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45400" y="90360"/>
            <a:ext cx="2246400" cy="87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8280" y="136440"/>
            <a:ext cx="224640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t errors detected from s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1960" y="2050920"/>
            <a:ext cx="3085920" cy="1395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81120" y="6456240"/>
            <a:ext cx="5462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quirements are achiev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1707840"/>
            <a:ext cx="860580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production systems of 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n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one el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OS, MiniBooNE, SDSS, CMS, et.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production systems of dCache and S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48440" y="2828880"/>
            <a:ext cx="251280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27760" y="5767560"/>
            <a:ext cx="1589040" cy="779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38840" y="5548320"/>
            <a:ext cx="271944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3020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N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66356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a hierarchical namespace for users' files in En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ages file meta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s like an NFS mounted file system from user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s for “Perfectly Normal File System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ritten at DE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1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vided into a number of server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alability is achieved by spreading these servers across multiple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node goes down, we can modify the configuration to run that nodes servers on a different node.  This increases availability while the broken node is fi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tore User Interface: en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 to standard UNIX cp(1)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cp /data/myfile1 /pnfs/myexperiment/myfil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48400" y="228600"/>
            <a:ext cx="2432160" cy="119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360" y="139680"/>
            <a:ext cx="243216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385560"/>
            <a:ext cx="860580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6960" y="1466640"/>
            <a:ext cx="8605800" cy="59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b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 StorageTek Powderhorn S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 ADIC AML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pe Dr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TO: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TO2: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940: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940B: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LT (4000 &amp; 8000):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27 commodity Linux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01000" y="1270080"/>
            <a:ext cx="2668320" cy="2730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99200" y="4141800"/>
            <a:ext cx="2670120" cy="2722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5520" y="15408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b pages for current server stat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n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ots for resourc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tapes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tape drive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much m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tv (ENstore T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75600" y="2235240"/>
            <a:ext cx="255600" cy="24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596440" y="2249640"/>
            <a:ext cx="255600" cy="24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769160" y="2249640"/>
            <a:ext cx="255600" cy="24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85760" y="18432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174240"/>
            <a:ext cx="86058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Monitoring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1680" y="1087560"/>
            <a:ext cx="7159680" cy="501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18520" y="184320"/>
            <a:ext cx="1592280" cy="78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9680" y="139680"/>
            <a:ext cx="1592280" cy="781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2000" y="6562800"/>
            <a:ext cx="28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3440" y="6168960"/>
            <a:ext cx="7507080" cy="12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-Axis is time since January 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05 until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-Axis is number of gigabytes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ludes summary of tapes written in last month and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