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B5E1-3596-4C98-96C8-9BA6EE2C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837E-1D82-4358-9168-BB48AC6C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4A87-4F3B-444D-97B0-AC865476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498-E48F-4E52-A059-AEFD070A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6B6-7CC0-4C83-8AE0-A657071D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C76-E3B0-4FD7-B099-10A708A2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B469-1DB1-4D64-BF24-6E8DC1C7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E48-9FEC-4D7B-87B5-565D6097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D943-3486-4CFE-A985-26970867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29D-F8F3-42F7-880C-DAB25D29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E8D6-80F0-4DA2-8572-902E7257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837F-E856-4A33-A887-E17BC022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51EB-4BAF-45B3-B3E5-34DB68106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D central data storage and 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ware for Early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ach - STK 9310 “powderhorn” s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each - STK 9840 “eagle” tape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MB/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at BaBar, Cern, Rh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0 - STK 9840 tape cartri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GB/ cart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 Server and Mover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NAL standar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tken_typical_system" descr=""/>
          <p:cNvPicPr/>
          <p:nvPr/>
        </p:nvPicPr>
        <p:blipFill>
          <a:blip r:embed="rId1"/>
          <a:stretch/>
        </p:blipFill>
        <p:spPr>
          <a:xfrm>
            <a:off x="1109520" y="743040"/>
            <a:ext cx="748692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for First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in production (4 TB) for D0 Run II AML/2 tape library: 8MM, DLT dr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K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working days, working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data volumes ~1 TB for trial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ng to upgrade lan, network inte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ng to point out bugs and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hardware =&gt; small chance of data lo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ion of ease of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 can access tape as easily as a native fil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pace viewable with UNIX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mechanism is similar to the unix cp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: encp infile out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4343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p    myfile.dat     /pnfs/theory/project1/myfile.d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p   *     /pnfs/theory/project1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p      /pnfs/theory/project1/myfile.dat     myfile.da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FS” to name tape files using UNIX like paths, served with NFS 2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s to schedule, configure, man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rs to bridge between network and tape dr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5543" t="7445" r="2290" b="1854"/>
          <a:stretch/>
        </p:blipFill>
        <p:spPr>
          <a:xfrm>
            <a:off x="4876920" y="2133720"/>
            <a:ext cx="3511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for Experiments (Clien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Unix Mount command to view the PNFS name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the “encp” product from k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p comman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cellaneous “enstore &lt;command&gt;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tore file --re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tore volume [--add | --delete | --restor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tore library [--delete_work --get_queue -priority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ume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Support clustering related files on the same ta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tore provides grouping primit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assume we can buy a tape robot slot for every t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tore provides quota in tapes and quotas in “slot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iment may have more tapes than sl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users to generate tapes outside ou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tore provides tools to do th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tapes to leave our system and be readable with simple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tore can make tapes dumpable with c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on t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ing by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families” Only files of the same family are on the same ta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amily is just an ascii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 are administered by the experi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ing b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tore closes volume for write when the next file does not f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ed paralle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dth” associated with a “file family” limits the number of volumes open for  writing, concentrates files on fewer volu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bandwidth into a file family to exceed the bandwidth of a tape dr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family, width=1 over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80880" y="1260360"/>
          <a:ext cx="8288280" cy="50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60360"/>
                    <a:ext cx="828828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pe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oduction, implementation details are hid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s do not stripe or span vol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detai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es have ANSI VOL1 h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es are file structured as CPIO arch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file to an archive, one filemark per arch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remove tapes from Enstore and just read them with GNU CPIO (gives a 4GB limit right now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I tapes planned, promised for D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Mass 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conne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store “Librari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t of tapes which are uniform with respec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level treatment by the dr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mechanism to mount/unmount ta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store system can consist of many “Libraries’ : D0 (ait, mam-1, dlt. Mam-2. Ait-2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store system may have diverse robots (STKEN has STK 9310, and ADIC  AML/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space: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 tree to name files as you w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 tree named as “volume map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pnfs/&lt;mountpoint&gt;/&lt;ffname&gt;/&lt;volume&gt;/&lt;P-_B_f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information on how new files should be created, which the experiment can admini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dditional information about each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space:UNIX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using PNFS from DESY. NFS v2 “Trans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most all” UNIX Utilities work, ls, f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utility reads/writes fail by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files in a directory is a poor choice “by desig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297180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$ pw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/pnfs/sam/mammoth/mcc99_2/in2p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[$ du  -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67171544     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$ ls   -al   sim.pmc02_in2p3.pythia.qcd_pt20.0_skip5800_mb1.1av_200evts.299_1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-rw-r--r--   1 sam      root     250184748 Nov 30 17:25 sim.pmc02_in2p3.pythia.qcd_pt20.0_skip5800_mb1.1av_200evts.299_1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m   sim.pmc02_in2p3.  pythia.qcd_pt20.0_skip5800_mb1.1av_200evts.299_1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m:   sim.pmc02_in2p3  .pythia.qcd_pt20.0_skip5800_mb1.1av_200evts.299_1138: Permission den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$ cat   sim.pmc02_in2p3.pythia.qcd_pt20.0skip5800_mb1.1av_200evts.299_1138   &gt;   /dev/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t: sim.pmc02_in2p3.pythia.qcd_pt20.0_skip5800_mb1.1av_200evts.299_1138: Input/output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space:defaults for new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-58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data “tags” are associated with direc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ed by the “enstore pnfs” comm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ed on “mkdi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tag on initial directory given by ISD d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ered by th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4876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petravic@d0enmvr17a in2p3]$ enstore pnfs --tags  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(tag)(library)  =  samm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(tag)(file_family)  =  in2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(tag)(file_family_width)  =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(tag)(file_family_wrapper)  =  cpio_o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space: File 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s an existing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ed by the “enstore pnfs”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by encp when the file is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212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 enstore pnfs --info  sim.pmc02_in2p3.pythia.qcd_pt20.0_10000evts_skip5800_mb1.1av_200evts.299_113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fid="94400431100000L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="PRF020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_cookie="0000_000005442_0000004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="250184748L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_family="in2p3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_file="/pnfs/sam/mammoth/volmap/in2p3/PRF020/0000_000005442_0000004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encp command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crc : data 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data_access_lay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tructured error ms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ephemeral : make a tape for ex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file_family : override default 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priority : get first claim on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del_pri : get a greater claim if wa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verbose : be chat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 may be removed using “rm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scratch tape when  all files on it are rm’ed. [enstore volume --delete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use a recovery utility to restore files up until the time the volume is scratched.  [enstore file --restore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 are recovered to pathname they were created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aring the Central Enstor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ake mount point(s) for your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-based authentication on the server side for m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r meta data is in its own database f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 the mount point, UNIX file permission ap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your uids/gid’s uniform! (FNAL uniform UID/GID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permissions apply to the tag files as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r Share” envisioned, for tape drive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over experiment resources by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ies implemented for Data Acqui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ck use of resources for the most urgent n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/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tion of upstream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tion of your NIC c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scheduling of the staging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throughput to your fil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configu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built for FUE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, IRIX, SunOS, OS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Good Through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Flow%20on%20a%20computer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0252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ntral Mass S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pe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NALU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byte Import and 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://stkensrv2.fnal.gov/enstore/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of interesting monitoring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updates are bat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 transf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stem is up or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ransfers are queu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://stkensrv2/enstore/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Status: Green == G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Recent Transf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list to use Ens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uthorized by the computing di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performant disks and compu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“bonnie” and “stream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suitable network conne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“enstore monitor” to mea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use of namespace, file famil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ize UIDs and GIDs if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nt the name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ncp to access your 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M 3494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 IBM 3590 tape dr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TB of staging disk internal t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IBM TBD mover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DDI network, 10 MB/sec to outsid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a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ly a cache, not a primary data reposi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as a hierarchical store, with tape at the lowest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 are subject to loss should the tape f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otas are refunded as tapes are squee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“large fil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D Division office gives an allocation in terms of 10 GB vol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s are to use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s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Envisio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store for experiments large data s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 files to/from tape via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fault tolerance -  ensemble reliability of a large tape drive plant, availability sufficient for D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for automated tape libraries and manual ta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names of files in distributed catalog (name spa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 will operate all the tape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hide too much that it is really t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administration and monito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with commodity and “data center” tape dr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7T18:42:33Z</dcterms:created>
  <dc:creator>Don Petravick</dc:creator>
  <dc:description/>
  <dc:language>en-US</dc:language>
  <cp:lastModifiedBy>alcorn</cp:lastModifiedBy>
  <cp:lastPrinted>2000-05-23T13:28:54Z</cp:lastPrinted>
  <dcterms:modified xsi:type="dcterms:W3CDTF">2000-06-06T20:12:08Z</dcterms:modified>
  <cp:revision>10</cp:revision>
  <dc:subject/>
  <dc:title>CD central data storage and movement</dc:title>
</cp:coreProperties>
</file>